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8420-102C-49C8-8F74-F953D075E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E5E2-FA7F-41FA-AC0C-07220618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6779-1115-41F9-9D9B-F9D92FF67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0CFF-F09D-4A18-9E1A-68529C0C4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FBEE-A548-4D01-A889-846865ED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18B5-D6BF-4645-A3C6-07346E69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CC72-0852-42B4-8CE6-463EB6B5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8489-A7CC-425D-87E6-DF294943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750B-38BE-41AE-8838-2B60C72E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63F0-6648-4595-B70C-D4730CEC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874A-3B8F-4385-981A-28DCFBF4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EB98-0938-432F-82F3-60B12EF6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AADC-D019-447B-BE63-CD6F52318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 Now 12-7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can identify mood when I read and the tone an author u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832040"/>
            <a:ext cx="8458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w are YOU feeling right now?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o you feel differently now that you have watched the video clip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ddiest Poin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 was the muddiest point about today’s lesso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is Moo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od is the effect of the writer’s words on the reader.  Mood is how the writer’s words make US (the reader) feel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o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19520" y="0"/>
            <a:ext cx="66992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60" y="0"/>
            <a:ext cx="3429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one in literature tells us how the author thinks about his or her subject.  Tone is the author’s attitude toward audience, subject, or a charac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uthor’s style conveys t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29200" y="3886200"/>
            <a:ext cx="291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Gill Sans Ultra Bold Condensed"/>
              </a:rPr>
              <a:t>TON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I read this, what mood are you sens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in a room filled with people, and it was warm, with firelight glowing on a hearth.  He could see through a window that outside it was night, and snowing.  There were colored lights: red and green and yellow, twinkling from a tree which was, oddly, inside the room.  On a table, lighted candles stood in a polished golden holder and cast a soft, flickering glow.  He could smell things cooking, and he heard soft laughter.  A golden-haired dog lay sleeping on the floo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ords from the text make you FEEL a certain mo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2742840"/>
            <a:ext cx="830556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hat other moods can people be in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od M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 feel in our heart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 process an author’s words in our min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ood and Tone Char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ords I gave you to help identify how you feel (your mood) when you read each piece of tex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your word on a post-it.  When you finish, move to the next s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are completely done, read your SSR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87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 Respo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8:53:00Z</dcterms:created>
  <dc:creator>Administrator</dc:creator>
  <dc:description/>
  <dc:language>en-US</dc:language>
  <cp:lastModifiedBy>Administrator</cp:lastModifiedBy>
  <dcterms:modified xsi:type="dcterms:W3CDTF">2010-12-03T02:52:09Z</dcterms:modified>
  <cp:revision>8</cp:revision>
  <dc:subject/>
  <dc:title>MOOD</dc:title>
</cp:coreProperties>
</file>